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4E62-C757-448C-A551-DB76C67AE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1CB3-24ED-4DF3-9C8A-3DDC151B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ADC4-F95F-44C4-B99F-AE55C176C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9830-5BBB-4E49-8D83-C1D3D35D8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D55F-FA41-493D-BD24-3A60E628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13A3-D37D-4D64-A476-F2524E7D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71D5-A3A8-45E8-9F7E-5EF64ACC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F6DC-607A-48D7-9D5A-6E3FCFCB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00C8-357B-4CD8-8E4B-A96C66EA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8908-7174-44ED-AA94-285FDE07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2A69-C3B4-4329-8FA3-EA870FD4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5510-838D-4FB9-A29D-BFE21AAA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img2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2F6E-A0F7-489F-843F-C92DA4341E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lo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Learning Targ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1 February 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143000"/>
            <a:ext cx="9067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Analyze the impact of Christopher Columb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T/CE, DBQ recap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eduling talk… show the course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umbus intro pictures and fact/opin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umbus controversy… read/anno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s of four (A’s and B’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Best evidence, statements/rec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consens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ref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562720" y="4440240"/>
            <a:ext cx="358128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2February 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0" y="1143000"/>
            <a:ext cx="9067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Analyze the impact of Christopher Columb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eduling talk… show the course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ect DBQ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umbus intro pictures and fact/opin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umbus controversy… read/anno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s of four (A’s and B’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Best evidence, statements/rec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consens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ref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645160" y="4495680"/>
            <a:ext cx="3498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3 February 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1143000"/>
            <a:ext cx="9067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Analyze the impact of Christopher Columb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T/CE, missing work &amp; gr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umbus controversy… read/annotate, whole class, part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hieve3000: Drake’s Secret (Columbus when 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s of four (A’s and B’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5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Best evidence, statements/rec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5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consens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5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ref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645160" y="4495680"/>
            <a:ext cx="3498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7 February 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1143000"/>
            <a:ext cx="9067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Analyze the impact of Christopher Columb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T/CE, missing work &amp; grades, classes, voc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umbus controversy… best evidence/dec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hieve3000: Three Worlds Meet: A 400-Year-Old Mystery Sol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umbian Exchange N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deo clip of Columb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645160" y="4495680"/>
            <a:ext cx="3498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8 February 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0" y="1143000"/>
            <a:ext cx="9067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Select courses for next school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end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SS presen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Vocab (M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645160" y="4495680"/>
            <a:ext cx="3498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9 February 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1143000"/>
            <a:ext cx="9067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Analyze factors for European dominance of nati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T/CE, gr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ish Columbus controvers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tez/Pizarro n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ns, Germs and Ste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Vocab (M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645160" y="4495680"/>
            <a:ext cx="3498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 February 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0" y="1143000"/>
            <a:ext cx="9067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Analyze factors for European dominance of nati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T/CAchieve3000: Age of Revolution: Was This Blackbeard's Ship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ns, Germs and Steel (13m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Vocab (M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486400" y="4387680"/>
            <a:ext cx="36576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3 February 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1143000"/>
            <a:ext cx="9067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Analyze factors for European dominance of nati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ns, Germs and Steel (17.5min/gu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cab Kahoot and coll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on triangle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Vocab Quiz (Tu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486400" y="4387680"/>
            <a:ext cx="36576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4 February 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1143000"/>
            <a:ext cx="9067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Explain key aspects of the African Slave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ap G, G, &amp; S… missing work, voc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hieve: </a:t>
            </a:r>
            <a:r>
              <a:rPr b="0" lang="en-US" sz="3200" spc="-1" strike="noStrike">
                <a:solidFill>
                  <a:srgbClr val="fdeada"/>
                </a:solidFill>
                <a:latin typeface="Calibri"/>
              </a:rPr>
              <a:t>England's Terrible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cab Kaho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on triangle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486400" y="4387680"/>
            <a:ext cx="36576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5 February 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1143000"/>
            <a:ext cx="9067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Explain key aspects of the African Slave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ect vocab &amp; quiz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avery documents: 3 groups, then present b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oration M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486400" y="4387680"/>
            <a:ext cx="36576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9 December 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1920" y="9144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85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Learning Target: </a:t>
            </a:r>
            <a:r>
              <a:rPr b="0" lang="en-US" sz="3400" spc="-1" strike="noStrike">
                <a:solidFill>
                  <a:srgbClr val="ffffff"/>
                </a:solidFill>
                <a:latin typeface="Calibri"/>
              </a:rPr>
              <a:t>Explain characteristics of medieval trad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8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GT/CE, assessmen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8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Vocabulary: define/answer/illustration for guessing game…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8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rade not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8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imulation tomorrow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5118120" y="4419720"/>
            <a:ext cx="4025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6 February 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1143000"/>
            <a:ext cx="9067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Explain key aspects of the African Slave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te Slavery documents: last group then rec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istad cl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hieve3000: </a:t>
            </a:r>
            <a:r>
              <a:rPr b="0" lang="en-US" sz="3200" spc="-1" strike="noStrike">
                <a:solidFill>
                  <a:srgbClr val="403152"/>
                </a:solidFill>
                <a:latin typeface="Calibri"/>
              </a:rPr>
              <a:t>Remembering the Amist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oration M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486400" y="4387680"/>
            <a:ext cx="36576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8 February 20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Select courses for next school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things/current 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SS scheduling and t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cab/Intro explo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410080" y="4336920"/>
            <a:ext cx="37339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9 February 20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Evaluate student samples of CER skills (claims, evidence, reason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T/CE, SSS rec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R Workshop/evaluating student s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urn tests/work-time/corre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Vocab (Fr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Green sheets (2/2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410080" y="4336920"/>
            <a:ext cx="37339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 February 20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1920" y="1143000"/>
            <a:ext cx="85345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Explain the motives for European explo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T/CE, S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 corrections/vocab/missing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e European exploration (notes/discuss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tives C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Vocab (tomorro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Green sheets (2/2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410080" y="4336920"/>
            <a:ext cx="37339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1 February 20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5228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Analyze the factors motivating European explo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T/CE, SSS, correction problem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ect Voc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oration Notes (3G’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tives CER (Bal. Inst. Group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best evidence/arguing a p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Green sheets (2/2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410080" y="4336920"/>
            <a:ext cx="37339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4 February 20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228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Explain who explored key areas of the globe and wh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T/CE, SSS, correction problem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ish CER’s and graded discu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ish Exploration Notes (Tec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oration competition (Who/wh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Green sheets (2/2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638680" y="4491000"/>
            <a:ext cx="35053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5 February 20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228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Analyze the motives for explo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T/CE, SS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ish CER’s and graded discu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ish Exploration Notes (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(Tec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is the real Columbu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line work ti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Green sheets (2/2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638680" y="4491000"/>
            <a:ext cx="35053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6 February 20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5228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Support a claim using evidence and reaso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T/CE, SS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ect time lines and CER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umbus Common C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oration M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Green sheets (2/2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638680" y="4491000"/>
            <a:ext cx="35053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7 February 20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28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Analyze the impact of the Columbian ex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T/CE, SS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lect/discuss Columb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umbus fact/opin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tez &amp; Pizar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Green sheets (2/2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638680" y="4491000"/>
            <a:ext cx="35053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0 December 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51920" y="9144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9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Learning Target: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tudents will be able to identify the advantages and disadvantages of trade centers located along the Silk Road and Afric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8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What’s happen’, Games…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8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Directions/setup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8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rade simula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8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Discussion with teams/whole group recap…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5867280" y="2895480"/>
            <a:ext cx="327672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8 February 20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5228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Analyze the impact of the Columbian ex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T/CE, SS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od activity (which are new/old worl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umbian exchange notes/vide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 Guns, germs and ste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Green sheets (2/2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638680" y="4491000"/>
            <a:ext cx="35053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 March 20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5228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Explain reasons for European success against Native Americ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T/CE, green she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itive/negative effects of C. Ex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 Guns, germs and ste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Green sheets (2/2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638680" y="4491000"/>
            <a:ext cx="35053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 March 20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5228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Explain reasons for European success against Native Americ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T/CE, green she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ish G, G &amp; 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 the vide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 slave trade DBQ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638680" y="4491000"/>
            <a:ext cx="35053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 March 20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228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Explain the stages of the African slave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T/CE, green she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 Guns, Germs &amp; Ste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 slave trade DBQ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 groups for main idea and evid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Test (Fr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638680" y="4491000"/>
            <a:ext cx="35053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 March 20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Explain the stages of the African slave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me small groups on Slave trade (discu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istad clip and storytel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and study gu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Test (Fr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638680" y="4491000"/>
            <a:ext cx="35053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7 March 20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5228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Explain the stages of the African slave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ect study gu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oration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olutions vocabul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Vocabulary (3/1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638680" y="4491000"/>
            <a:ext cx="35053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9 February 20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Identify motives for European explo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things/current 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urn T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 over Renaissance CER’s (samples)… vide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tives for European Exploration notes (Cornel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410080" y="4336920"/>
            <a:ext cx="37339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 February 20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Identify motives for European explo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/finish 3G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tivation CER (model #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ti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410080" y="4336920"/>
            <a:ext cx="37339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1 February 20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Identify motives for explo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 Bell rin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R recap/fin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Strengths/weaknesses/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Admiral Zheng Video w/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Vocab &amp; work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Vocab due Tues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Books tomorr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410080" y="4336920"/>
            <a:ext cx="37339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1 December 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51920" y="9144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9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Learning Target: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nalyze the effects of medieval trad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8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What’s happen’,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8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ecap game: war, diseas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8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rade Not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8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rade video (3-2-1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5867280" y="2895480"/>
            <a:ext cx="327672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2 February 20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Explain the purpose and impact of Zheng He’s voy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heng video cl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heng reading guide &amp; discu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Vocab &amp; work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Vocab due Tues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410080" y="4336920"/>
            <a:ext cx="37339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5 February 20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Analyze how Columbus changed the New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t CER recap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ap Zheng (True &amp; Fals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Columbus pictures/n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Video (3 impacts he h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Vocab due Tues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410080" y="4336920"/>
            <a:ext cx="37339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6 February 20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Analyze how Columbus changed the New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cab &amp; Qui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p work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New World… pre-Columb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Map due W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410080" y="4336920"/>
            <a:ext cx="37339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8 February 20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Explain how the Spanish treated the n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ect m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ll rin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rope Notes (Cortez/Pizarr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On the organiz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Other explor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410080" y="4336920"/>
            <a:ext cx="37339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 March 20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Explain why conquistadors were so successful against the n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des, poli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vorite meal…CE 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umbian Exchange n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Begin “Guns, Germs, &amp; Steel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638680" y="4491000"/>
            <a:ext cx="35053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 March 20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Explain why conquistadors were so successful against the n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des, poli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ish Guns, Germs, and Ste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 work assig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Group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638680" y="4491000"/>
            <a:ext cx="35053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 March 20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1143000"/>
            <a:ext cx="84582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Explain the stages of the African Slave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ish Guns, Germs, and Ste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umbian Exchange notes/Middle Pass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Slavery documents/C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Test Thurs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334120" y="4284720"/>
            <a:ext cx="380988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 March 20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6840" y="1143000"/>
            <a:ext cx="84582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Explain the stages of the African Slave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Continue  Slavery doc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Partner to answer the questions on the back/discu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view questions/g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Test tomorr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334120" y="4284720"/>
            <a:ext cx="380988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7 March 20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1143000"/>
            <a:ext cx="84582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Analyze the impact of explo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Review Q &amp;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334120" y="4284720"/>
            <a:ext cx="380988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4 December 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51920" y="9144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9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Learning Target: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nalyze the effects of medieval trad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8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What’s happen’,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8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ecap game: war, diseas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8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rade Not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8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rade video (3-2-1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5867280" y="2895480"/>
            <a:ext cx="327672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 February 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Explain the motives for voyages of explo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T/CE, test comple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hieve3000: Did Weather Change Hi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oration motives (Notes on 3G’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715000" y="4543560"/>
            <a:ext cx="342900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 February 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Analyze the accomplishments of Zheng 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T/CE, test comple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ish Exploration motives (Notes on 3G’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heng He reading,  RAP, answer w/part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heng He Video w/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715000" y="4543560"/>
            <a:ext cx="342900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9 February 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Analyze the accomplishments of Zheng 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T/CE, test return/corre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ish Exploration notes (technolog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heng He in America slide &amp; vide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graph written respo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562720" y="4440240"/>
            <a:ext cx="358128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3:38:02Z</dcterms:created>
  <dc:creator>Owner</dc:creator>
  <dc:description/>
  <dc:language>en-US</dc:language>
  <cp:lastModifiedBy>Kuenzi</cp:lastModifiedBy>
  <dcterms:modified xsi:type="dcterms:W3CDTF">2015-12-14T16:13:37Z</dcterms:modified>
  <cp:revision>69</cp:revision>
  <dc:subject/>
  <dc:title>Expl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09781033</vt:lpwstr>
  </property>
</Properties>
</file>